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25480" y="7137000"/>
            <a:ext cx="1135368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25480" y="8769960"/>
            <a:ext cx="1135368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3440" y="83055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2548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3440" y="8769960"/>
            <a:ext cx="55404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52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03560" y="83055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2548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6452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03560" y="8769960"/>
            <a:ext cx="3655800" cy="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6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480" y="3048120"/>
            <a:ext cx="11353680" cy="2273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d4a2f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5480" y="5308560"/>
            <a:ext cx="11353680" cy="1295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 fontScale="29000"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algn="ctr">
              <a:lnSpc>
                <a:spcPct val="120000"/>
              </a:lnSpc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47640" y="647640"/>
            <a:ext cx="11747520" cy="847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5120" y="1510920"/>
            <a:ext cx="5854680" cy="3645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d4a2f"/>
                </a:solidFill>
                <a:latin typeface="Georgia"/>
              </a:rPr>
              <a:t>Click to edit the title text format</a:t>
            </a:r>
            <a:endParaRPr b="0" lang="en-US" sz="80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25120" y="5143320"/>
            <a:ext cx="5854680" cy="313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 fontScale="60000"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algn="ctr">
              <a:lnSpc>
                <a:spcPct val="120000"/>
              </a:lnSpc>
              <a:spcBef>
                <a:spcPts val="1199"/>
              </a:spcBef>
              <a:buClr>
                <a:srgbClr val="3d4a2f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542304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1000"/>
          </a:bodyPr>
          <a:p>
            <a:pPr marL="2880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06600" indent="-2876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9666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32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542304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1000"/>
          </a:bodyPr>
          <a:p>
            <a:pPr marL="2880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06600" indent="-2876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9666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32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56120" y="2705040"/>
            <a:ext cx="5422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1000"/>
          </a:bodyPr>
          <a:p>
            <a:pPr marL="2880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06600" indent="-2876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96660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32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686960" indent="-28800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3164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66720" indent="-31608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106236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45800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Click to edit the outline text format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1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con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2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Thir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3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our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4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if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5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ix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6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ven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t">
            <a:normAutofit fontScale="12000"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Click to edit the outline text format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1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con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2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Third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3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our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4" algn="ctr">
              <a:lnSpc>
                <a:spcPct val="120000"/>
              </a:lnSpc>
              <a:buClr>
                <a:srgbClr val="f2d99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Fif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5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ix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  <a:p>
            <a:pPr lvl="6" algn="ctr">
              <a:lnSpc>
                <a:spcPct val="120000"/>
              </a:lnSpc>
              <a:buClr>
                <a:srgbClr val="3d4a2f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Seventh Outline Level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5480" y="3047760"/>
            <a:ext cx="11353680" cy="355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d4a2f"/>
                </a:solidFill>
                <a:latin typeface="Georgia"/>
              </a:rPr>
              <a:t>Click to edit the title text format</a:t>
            </a:r>
            <a:endParaRPr b="0" lang="en-US" sz="78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825480" y="825120"/>
            <a:ext cx="11353680" cy="8102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 fontScale="93000"/>
          </a:bodyPr>
          <a:p>
            <a:pPr marL="33048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1" marL="696600" indent="-33012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2" marL="110988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3" marL="152352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4" marL="193680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5" marL="193680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  <a:p>
            <a:pPr lvl="6" marL="1936800" indent="-330480">
              <a:lnSpc>
                <a:spcPct val="120000"/>
              </a:lnSpc>
              <a:spcBef>
                <a:spcPts val="5199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6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 fontScale="89000"/>
          </a:bodyPr>
          <a:p>
            <a:pPr marL="3164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1" marL="666720" indent="-31608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2" marL="106236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3" marL="145800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4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5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lvl="6" marL="1853640" indent="-316440">
              <a:lnSpc>
                <a:spcPct val="120000"/>
              </a:lnSpc>
              <a:spcBef>
                <a:spcPts val="3600"/>
              </a:spcBef>
              <a:buClr>
                <a:srgbClr val="3d4a2f"/>
              </a:buClr>
              <a:buSzPct val="62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Click to edit the title text format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hyperlink" Target="http://www.groupsite.com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25480" y="3048120"/>
            <a:ext cx="11353680" cy="2273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d4a2f"/>
                </a:solidFill>
                <a:latin typeface="Georgia"/>
              </a:rPr>
              <a:t>Groupsite tutorial</a:t>
            </a:r>
            <a:endParaRPr b="0" lang="en-US" sz="7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5480" y="5308560"/>
            <a:ext cx="11353680" cy="1295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For your local SDEA Chapter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5480" y="50400"/>
            <a:ext cx="11353680" cy="20322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af7e0"/>
                </a:solidFill>
                <a:latin typeface="Georgia"/>
              </a:rPr>
              <a:t>Getting Started</a:t>
            </a:r>
            <a:endParaRPr b="0" lang="en-US" sz="72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25480" y="2705040"/>
            <a:ext cx="11353680" cy="6222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efffe">
                <a:alpha val="4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www.groupsite.com</a:t>
            </a: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/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0">
              <a:lnSpc>
                <a:spcPct val="120000"/>
              </a:lnSpc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  <a:p>
            <a:pPr marL="355680" indent="-355680">
              <a:lnSpc>
                <a:spcPct val="120000"/>
              </a:lnSpc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</a:rPr>
              <a:t>Select 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584280" y="5334120"/>
            <a:ext cx="11048760" cy="5079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2552760" y="6591240"/>
            <a:ext cx="30988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25480" y="732744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af7e0"/>
                </a:solidFill>
                <a:latin typeface="Georgia"/>
              </a:rPr>
              <a:t>Registration Form</a:t>
            </a:r>
            <a:endParaRPr b="0" lang="en-US" sz="7000" spc="-1" strike="noStrike">
              <a:solidFill>
                <a:srgbClr val="faf7e0"/>
              </a:solidFill>
              <a:latin typeface="Georgia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2476440" y="393840"/>
            <a:ext cx="8042400" cy="6184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8648640" y="1555920"/>
            <a:ext cx="325116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efffe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  <a:ea typeface="Georgia"/>
              </a:rPr>
              <a:t>Make it simple and specific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504920" y="1701360"/>
            <a:ext cx="1359000" cy="50760"/>
          </a:xfrm>
          <a:prstGeom prst="line">
            <a:avLst/>
          </a:prstGeom>
          <a:ln w="25560">
            <a:solidFill>
              <a:srgbClr val="3d4a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36" name=""/>
          <p:cNvSpPr/>
          <p:nvPr/>
        </p:nvSpPr>
        <p:spPr>
          <a:xfrm>
            <a:off x="8648640" y="2336760"/>
            <a:ext cx="325116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efffe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  <a:ea typeface="Georgia"/>
              </a:rPr>
              <a:t>Not Visible to Outsiders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7670160" y="2476080"/>
            <a:ext cx="1359000" cy="49320"/>
          </a:xfrm>
          <a:prstGeom prst="line">
            <a:avLst/>
          </a:prstGeom>
          <a:ln w="25560">
            <a:solidFill>
              <a:srgbClr val="3d4a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670160" y="2882520"/>
            <a:ext cx="1359000" cy="49320"/>
          </a:xfrm>
          <a:prstGeom prst="line">
            <a:avLst/>
          </a:prstGeom>
          <a:ln w="25560">
            <a:solidFill>
              <a:srgbClr val="3d4a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39" name=""/>
          <p:cNvSpPr/>
          <p:nvPr/>
        </p:nvSpPr>
        <p:spPr>
          <a:xfrm>
            <a:off x="8801280" y="2743200"/>
            <a:ext cx="38606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efffe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  <a:ea typeface="Georgia"/>
              </a:rPr>
              <a:t>By Invitation or Approve Request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670160" y="3339720"/>
            <a:ext cx="1359000" cy="49320"/>
          </a:xfrm>
          <a:prstGeom prst="line">
            <a:avLst/>
          </a:prstGeom>
          <a:ln w="25560">
            <a:solidFill>
              <a:srgbClr val="3d4a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41" name=""/>
          <p:cNvSpPr/>
          <p:nvPr/>
        </p:nvSpPr>
        <p:spPr>
          <a:xfrm>
            <a:off x="7785000" y="3200400"/>
            <a:ext cx="386100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efffe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  <a:ea typeface="Georgia"/>
              </a:rPr>
              <a:t>Professional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720920" y="4965840"/>
            <a:ext cx="1359000" cy="48960"/>
          </a:xfrm>
          <a:prstGeom prst="line">
            <a:avLst/>
          </a:prstGeom>
          <a:ln w="25560">
            <a:solidFill>
              <a:srgbClr val="3d4a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43" name=""/>
          <p:cNvSpPr/>
          <p:nvPr/>
        </p:nvSpPr>
        <p:spPr>
          <a:xfrm>
            <a:off x="7835760" y="4826160"/>
            <a:ext cx="386100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efffe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  <a:ea typeface="Georgia"/>
              </a:rPr>
              <a:t>Membership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720920" y="5384880"/>
            <a:ext cx="1359000" cy="48960"/>
          </a:xfrm>
          <a:prstGeom prst="line">
            <a:avLst/>
          </a:prstGeom>
          <a:ln w="25560">
            <a:solidFill>
              <a:srgbClr val="3d4a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45" name=""/>
          <p:cNvSpPr/>
          <p:nvPr/>
        </p:nvSpPr>
        <p:spPr>
          <a:xfrm>
            <a:off x="8102520" y="5245200"/>
            <a:ext cx="386100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efffe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4a2f"/>
                </a:solidFill>
                <a:latin typeface="Georgia"/>
                <a:ea typeface="Georgia"/>
              </a:rPr>
              <a:t>School/Education</a:t>
            </a:r>
            <a:endParaRPr b="0" lang="en-US" sz="18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5480" y="739116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af7e0"/>
                </a:solidFill>
                <a:latin typeface="Georgia"/>
              </a:rPr>
              <a:t>Use default setting</a:t>
            </a:r>
            <a:endParaRPr b="0" lang="en-US" sz="6400" spc="-1" strike="noStrike">
              <a:solidFill>
                <a:srgbClr val="faf7e0"/>
              </a:solidFill>
              <a:latin typeface="Georgia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2844720" y="604800"/>
            <a:ext cx="731520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faf7e0"/>
                </a:solidFill>
                <a:latin typeface="Georgia"/>
              </a:rPr>
              <a:t>User Profile</a:t>
            </a:r>
            <a:endParaRPr b="0" lang="en-US" sz="7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t">
            <a:normAutofit fontScale="91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2d99b"/>
                </a:solidFill>
                <a:latin typeface="Hoefler Text"/>
              </a:rPr>
              <a:t>This will double as your professional information</a:t>
            </a:r>
            <a:endParaRPr b="0" i="1" lang="en-US" sz="4500" spc="-1" strike="noStrike">
              <a:solidFill>
                <a:srgbClr val="f2d99b"/>
              </a:solidFill>
              <a:latin typeface="Hoefler Text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387520" y="476280"/>
            <a:ext cx="8217000" cy="6013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 flipH="1">
            <a:off x="2590920" y="4102200"/>
            <a:ext cx="1358640" cy="63360"/>
          </a:xfrm>
          <a:prstGeom prst="line">
            <a:avLst/>
          </a:prstGeom>
          <a:ln w="25560">
            <a:solidFill>
              <a:srgbClr val="3d4a2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d4a2f"/>
              </a:solidFill>
              <a:latin typeface="Georgia"/>
            </a:endParaRPr>
          </a:p>
        </p:txBody>
      </p:sp>
      <p:sp>
        <p:nvSpPr>
          <p:cNvPr id="552" name=""/>
          <p:cNvSpPr/>
          <p:nvPr/>
        </p:nvSpPr>
        <p:spPr>
          <a:xfrm>
            <a:off x="1036440" y="3737160"/>
            <a:ext cx="1602360" cy="75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efffe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5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a2f"/>
                </a:solidFill>
                <a:latin typeface="Georgia"/>
                <a:ea typeface="Georgia"/>
              </a:rPr>
              <a:t>Deselect</a:t>
            </a:r>
            <a:endParaRPr b="0" lang="en-US" sz="3200" spc="-1" strike="noStrike">
              <a:solidFill>
                <a:srgbClr val="3d4a2f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5480" y="7137000"/>
            <a:ext cx="11353680" cy="11811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7e0"/>
                </a:solidFill>
                <a:latin typeface="Georgia"/>
              </a:rPr>
              <a:t>Review information</a:t>
            </a:r>
            <a:endParaRPr b="0" lang="en-US" sz="4800" spc="-1" strike="noStrike">
              <a:solidFill>
                <a:srgbClr val="faf7e0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25480" y="8305560"/>
            <a:ext cx="11353680" cy="88884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000000">
                <a:alpha val="30000"/>
              </a:srgbClr>
            </a:outerShdw>
          </a:effectLst>
        </p:spPr>
        <p:txBody>
          <a:bodyPr lIns="50760" rIns="50760" tIns="50760" bIns="50760" anchor="t">
            <a:normAutofit fontScale="89000"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2d99b"/>
                </a:solidFill>
                <a:latin typeface="Hoefler Text"/>
              </a:rPr>
              <a:t>Make it happen if correct</a:t>
            </a:r>
            <a:endParaRPr b="0" i="1" lang="en-US" sz="4800" spc="-1" strike="noStrike">
              <a:solidFill>
                <a:srgbClr val="f2d99b"/>
              </a:solidFill>
              <a:latin typeface="Hoefler Text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2230560" y="430200"/>
            <a:ext cx="8534160" cy="603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